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EBA3-0B8B-4505-BB93-F77E7581C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8604B-CA0F-4E52-AD5D-1C912CF9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D87C-003A-4451-9E87-A7114840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40FD2-348D-455B-992D-5CAA0208E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61541D-0296-4CAA-9F4B-2F5ACAF147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FAA21E-23AE-4DE7-A7AE-C1E99ED18E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9A0DE-6775-44C9-B1A1-7E39CCC19B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89634-8856-4520-A95D-4FFDD2620D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5BD20-6C96-4FDA-BCDB-6F96644A2A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FF4954-E5E9-4E51-B018-F148C405D7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EEADB-C1D2-4EDF-8524-69843494EF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9BAB-6479-40B6-B15D-6E59D3C0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F753B-5125-4756-88FA-825FFE618F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90D45-C580-4A5B-BE14-0AFA45F05F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70C44-2734-41B3-BD5B-2882654F02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2AA515-7F66-4331-8915-1B05BFEB68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4B713-CAC3-4C40-92AD-3C754ED10D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6234-3DDD-4FCA-A07B-DEF3C39D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F56AC-677F-40A7-AA7B-FABBC62B9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67339-485C-4516-948F-86B7D09B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2426-FFDE-4CDC-985B-28F8FE20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21A3C-01F5-48B8-912C-CA7C2085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3346-E894-4B4C-BBFC-94C95C47E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2106-F46F-4296-A63E-882916421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387D-EE1A-40D4-869D-69636EA97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7FB6-419D-4DB6-A8C4-224185FACF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bp3.blogger.com/_Ssud8db3HLY/RoWEM8ldbTI/AAAAAAAAAeg/xDAXQ_i_7Gw/s400/three%2Bfingers%2Bsmall.jpg&amp;imgrefurl=http://blog.jugglingfrogs.com/2007/06/three-things-i-want-my-kids-to-refrain.html&amp;h=400&amp;w=319&amp;sz=14&amp;hl=en&amp;start=3&amp;um=1&amp;tbnid=byTNQiqdKCCh2M:&amp;tbnh=124&amp;tbnw=99&amp;prev=/images%3Fq%3Dthree%2Bfingers%26svnum%3D10%26um%3D1%26hl%3Den%26sa%3DN"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Tahoma"/>
              </a:rPr>
              <a:t>Trinity</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tudies Of Reli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Bible Support – One God</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enesis 1:1 ‘ In the beginning God creat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saiah 45 :5 ‘ I am the Lord and there is no oth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uteronomy 6:4 ‘Hear o Israel, the Lord is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Bible Support – Jesus is God</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Whoever has seen me has seen the Father’ – John 14:9</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Word was with God and the Word was God …. The word became flesh and made his dwelling with us (John 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Bible Support - Holy Spirit is God</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Then Peter said, "Ananias, how is it that Satan has so filled your heart that you have lied to the Holy Spirit and have kept for yourself some of the money you received for the land? 4Didn't it belong to you before it was sold? And after it was sold, wasn't the money at your disposal? What made you think of doing such a thing? You have not lied to men but to God." (Acts 5:3-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ole of Holy Spiri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elps us to understand God’s word:</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You became imitators of us and of the Lord; in spite of severe suffering, you welcomed the message with the joy given by the Holy Spirit.</a:t>
            </a:r>
            <a:br>
              <a:rPr sz="2000"/>
            </a:br>
            <a:r>
              <a:rPr b="0" lang="en-AU" sz="2000" spc="-1" strike="noStrike">
                <a:solidFill>
                  <a:srgbClr val="ffffff"/>
                </a:solidFill>
                <a:latin typeface="Tahoma"/>
              </a:rPr>
              <a:t>(1 Thessalonians 1:6)</a:t>
            </a:r>
            <a:endParaRPr b="0" lang="en-US" sz="20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ntercedes for us in prayer:</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 the same way, the Spirit helps us in our weakness. We do not know what we ought to pray for, but the Spirit himself intercedes for us with groans that words cannot express. And he who searches our hearts knows the mind of the Spirit, because the Spirit intercedes for the saints in accordance with God's will. (Romans 8:26-27)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Indivisible Unity</a:t>
            </a:r>
            <a:endParaRPr b="0" lang="en-US" sz="4400" spc="-1" strike="noStrike">
              <a:solidFill>
                <a:srgbClr val="ffffff"/>
              </a:solidFill>
              <a:latin typeface="Tahoma"/>
            </a:endParaRPr>
          </a:p>
        </p:txBody>
      </p:sp>
      <p:sp>
        <p:nvSpPr>
          <p:cNvPr id="111" name="PlaceHolder 2"/>
          <p:cNvSpPr>
            <a:spLocks noGrp="1"/>
          </p:cNvSpPr>
          <p:nvPr>
            <p:ph/>
          </p:nvPr>
        </p:nvSpPr>
        <p:spPr>
          <a:xfrm>
            <a:off x="457200" y="1628280"/>
            <a:ext cx="8362800" cy="50403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I and the Father are one” John 10:3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I am in the Father and the Father is in me” - John 14:11.</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refore go and make disciples of all nations, baptizing them in the name of the Father and of the Son and of the Holy Spirit” Matthew 28:1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Understanding the Trinity</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grace of the Lord Jesus Christ, and the love of God, and the fellowship of the Holy Spirit be with you all” 2 Corinthians 13:14</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other words –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pray to God the Fath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can only do this because he loves us and sent his son as a sacrifice for 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ur prayers are taken from us, to God, by the Holy Spirit who lives in u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Tahoma"/>
              </a:rPr>
              <a:t>Importance of the Doctrine of the Trinity</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Jesus as Lord: Without the doctrine Jesus could be another God.</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ersonal relationships: Father loves the son and gives all to the son (John 3:35), Not my will but yours be done Luke 22, I have come to do the will of the one who sent me (John 6). Spirit speaks not of itself but the acts of God. This is the relationship within the Trinity (Godhe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What is the Trinity?</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ough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The Three Sisters Katoomba"/>
          <p:cNvPicPr/>
          <p:nvPr/>
        </p:nvPicPr>
        <p:blipFill>
          <a:blip r:embed="rId2"/>
          <a:stretch/>
        </p:blipFill>
        <p:spPr>
          <a:xfrm>
            <a:off x="324000" y="260280"/>
            <a:ext cx="5760720" cy="3821040"/>
          </a:xfrm>
          <a:prstGeom prst="rect">
            <a:avLst/>
          </a:prstGeom>
          <a:ln w="0">
            <a:noFill/>
          </a:ln>
        </p:spPr>
      </p:pic>
      <p:pic>
        <p:nvPicPr>
          <p:cNvPr id="88" name="" descr=""/>
          <p:cNvPicPr/>
          <p:nvPr/>
        </p:nvPicPr>
        <p:blipFill>
          <a:blip r:embed="rId3"/>
          <a:stretch/>
        </p:blipFill>
        <p:spPr>
          <a:xfrm>
            <a:off x="6732720" y="836640"/>
            <a:ext cx="1904760" cy="1905120"/>
          </a:xfrm>
          <a:prstGeom prst="rect">
            <a:avLst/>
          </a:prstGeom>
          <a:ln w="0">
            <a:noFill/>
          </a:ln>
        </p:spPr>
      </p:pic>
      <p:pic>
        <p:nvPicPr>
          <p:cNvPr id="89" name="" descr=""/>
          <p:cNvPicPr/>
          <p:nvPr/>
        </p:nvPicPr>
        <p:blipFill>
          <a:blip r:embed="rId4"/>
          <a:stretch/>
        </p:blipFill>
        <p:spPr>
          <a:xfrm>
            <a:off x="3203640" y="4437000"/>
            <a:ext cx="323856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324000" y="981000"/>
            <a:ext cx="3795480" cy="4753080"/>
          </a:xfrm>
          <a:prstGeom prst="rect">
            <a:avLst/>
          </a:prstGeom>
          <a:ln w="0">
            <a:noFill/>
          </a:ln>
        </p:spPr>
      </p:pic>
      <p:pic>
        <p:nvPicPr>
          <p:cNvPr id="91" name="" descr=""/>
          <p:cNvPicPr/>
          <p:nvPr/>
        </p:nvPicPr>
        <p:blipFill>
          <a:blip r:embed="rId4"/>
          <a:stretch/>
        </p:blipFill>
        <p:spPr>
          <a:xfrm>
            <a:off x="5365800" y="1197000"/>
            <a:ext cx="3778200" cy="4541760"/>
          </a:xfrm>
          <a:prstGeom prst="rect">
            <a:avLst/>
          </a:prstGeom>
          <a:ln w="0">
            <a:noFill/>
          </a:ln>
        </p:spPr>
      </p:pic>
      <p:sp>
        <p:nvSpPr>
          <p:cNvPr id="92" name=""/>
          <p:cNvSpPr/>
          <p:nvPr/>
        </p:nvSpPr>
        <p:spPr>
          <a:xfrm>
            <a:off x="4284720" y="2997360"/>
            <a:ext cx="79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Tahoma"/>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1341360"/>
            <a:ext cx="3628800" cy="4403880"/>
          </a:xfrm>
          <a:prstGeom prst="rect">
            <a:avLst/>
          </a:prstGeom>
          <a:ln w="0">
            <a:noFill/>
          </a:ln>
        </p:spPr>
      </p:pic>
      <p:sp>
        <p:nvSpPr>
          <p:cNvPr id="94" name=""/>
          <p:cNvSpPr/>
          <p:nvPr/>
        </p:nvSpPr>
        <p:spPr>
          <a:xfrm>
            <a:off x="4643280" y="2133720"/>
            <a:ext cx="414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3 in one stroll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3 wheel stroll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push bik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tricycl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l for just $1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Definitio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iun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three in one; constituting a trinity in unity, as the Godhead.</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i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on of three persons (Father, Son, and Holy Ghost) in one Godhead, or the threefold personality of the one Divine Be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Ancient  Diagram of the trinity"/>
          <p:cNvPicPr/>
          <p:nvPr/>
        </p:nvPicPr>
        <p:blipFill>
          <a:blip r:embed="rId2"/>
          <a:stretch/>
        </p:blipFill>
        <p:spPr>
          <a:xfrm>
            <a:off x="1547640" y="598320"/>
            <a:ext cx="5977080" cy="563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187280" y="1268280"/>
            <a:ext cx="6697800" cy="3905280"/>
          </a:xfrm>
          <a:prstGeom prst="rect">
            <a:avLst/>
          </a:prstGeom>
          <a:ln w="0">
            <a:noFill/>
          </a:ln>
        </p:spPr>
      </p:pic>
      <p:sp>
        <p:nvSpPr>
          <p:cNvPr id="99" name=""/>
          <p:cNvSpPr/>
          <p:nvPr/>
        </p:nvSpPr>
        <p:spPr>
          <a:xfrm>
            <a:off x="2484360" y="558972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ways H2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Three God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mportant to note –still one God. Not three different Go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15:52Z</dcterms:created>
  <dc:creator>Karina Johnston</dc:creator>
  <dc:description/>
  <dc:language>en-US</dc:language>
  <cp:lastModifiedBy>Shore</cp:lastModifiedBy>
  <dcterms:modified xsi:type="dcterms:W3CDTF">2008-03-02T21:56:22Z</dcterms:modified>
  <cp:revision>5</cp:revision>
  <dc:subject/>
  <dc:title>Trinity</dc:title>
</cp:coreProperties>
</file>